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D538D-1EDC-4041-A6EB-0A89B815D0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14FE234-46FF-407C-B4D2-EF63A4594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6A44D2C7-4F35-465A-9D06-31B8BBFA9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36277B5F-588C-4107-8072-52E21A93A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94E094-762A-4FD7-8EA9-86E9B236F6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E8119C1-1649-45AF-9FA7-4CC75145E0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8262C6D-6C31-4B46-896E-70960C85D5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C540422-F7D3-4F35-900A-C95F1A58F4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24086B3-F200-4ABA-B451-FEBF25027D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502FAD5-417C-401C-BFA4-EFB27878E3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B9DFA31-1088-45FD-8856-92F2ED9DC5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898E010-B3A0-4FF8-85DD-562026E74B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F3B532E-49FF-4C8F-9751-CC159AE5A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2D7BDE4-D3D8-4295-8EDC-5857E35A0B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86DFF3E-60E7-41BD-A92B-B4123F73F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EABF919-CB7F-4075-A5B1-B8FF7C754B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C20CAC6-2EA2-40BF-A8FA-76BECE2B9E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BE464F9-A116-4B28-9071-F5DFDA694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D44CD3E-310B-4658-B6CD-0E7C7CCC4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65C2355-42FC-4B12-8607-EE6D9F077D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EACC082-CFB1-4732-88E6-B144F37AE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1616455-E268-435F-B38C-BC063F6DF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FBF52E2-3F82-4E3C-8534-FD35D75C3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B8A09B1-A6E9-4CFD-9651-C8BC674896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8CF7-CA8B-4EAD-91CD-B922456BC76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1B64-8C72-4484-952F-5BD5A5521E2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4.jpe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Unfair Trade? </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425C7E8E-BED8-450D-9FF1-94D230169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t happens to the crops?</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836280"/>
            <a:ext cx="856908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rops are picked by the farmers in the morning. The farmers then arrange for them to be taken by bus to the packing plant. They are unloaded and weighed in from around 2pm each da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egetables such as courgettes and sunburst pumpkins are washed, but green beans are not, because this would encourage them to ro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vegetables are cooled for transport and packed into box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6pm they are put on to crates and taken to the airport. They arrive fresh in the USA the next day and are eaten by people thousands of miles from where they were produc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PCION also has a greenhouse where it experiments with growing new varieties of crops, for instance pink and yellow carrots! These have a novelty value and will sell well to the specialist market in the USA.</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0C0E099-CC49-4297-B75D-3C60165AA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Florencio</a:t>
            </a:r>
            <a:r>
              <a:rPr b="0" lang="en-GB"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95" name="PlaceHolder 2"/>
          <p:cNvSpPr>
            <a:spLocks noGrp="1"/>
          </p:cNvSpPr>
          <p:nvPr>
            <p:ph/>
          </p:nvPr>
        </p:nvSpPr>
        <p:spPr>
          <a:xfrm>
            <a:off x="250560" y="765000"/>
            <a:ext cx="648180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rencio and his family grow sunburst pumpkins, which take two months to grow from sowing to pick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also grow broccoli and other crops. OPCION has encouraged them to plant in cycles so that they do not become too dependent on any one crop.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PCION has also helped to set up an irrigation system, based on pressurised spring water from the mountains, so they can grow vegetables all year round, not just in the rainy season.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rencio works on the land, looking after the irrigation system, weeding, planting, and harvesting vegetables. He says: ”Working with OPCION has made my life better. Now I can work the land in the morning and go to school in the afternoon.”</a:t>
            </a:r>
            <a:endParaRPr b="0" lang="en-US" sz="2400" spc="-1" strike="noStrike">
              <a:solidFill>
                <a:srgbClr val="006699"/>
              </a:solidFill>
              <a:latin typeface="Comic Sans MS"/>
            </a:endParaRPr>
          </a:p>
        </p:txBody>
      </p:sp>
      <p:sp>
        <p:nvSpPr>
          <p:cNvPr id="196" name=""/>
          <p:cNvSpPr/>
          <p:nvPr/>
        </p:nvSpPr>
        <p:spPr>
          <a:xfrm>
            <a:off x="6659640" y="2781360"/>
            <a:ext cx="2484360" cy="15570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Florencio looks after the irrigation system</a:t>
            </a:r>
            <a:endParaRPr b="0" lang="en-US" sz="2400" spc="-1" strike="noStrike">
              <a:solidFill>
                <a:srgbClr val="006699"/>
              </a:solidFill>
              <a:latin typeface="Arial"/>
            </a:endParaRPr>
          </a:p>
        </p:txBody>
      </p:sp>
      <p:pic>
        <p:nvPicPr>
          <p:cNvPr id="197" name="" descr="Florencio looks after the irrigation system"/>
          <p:cNvPicPr/>
          <p:nvPr/>
        </p:nvPicPr>
        <p:blipFill>
          <a:blip r:embed="rId5"/>
          <a:stretch/>
        </p:blipFill>
        <p:spPr>
          <a:xfrm>
            <a:off x="6877080" y="115920"/>
            <a:ext cx="1905120" cy="2590920"/>
          </a:xfrm>
          <a:prstGeom prst="rect">
            <a:avLst/>
          </a:prstGeom>
          <a:ln w="0">
            <a:noFill/>
          </a:ln>
        </p:spPr>
      </p:pic>
      <p:pic>
        <p:nvPicPr>
          <p:cNvPr id="198" name="" descr="sunburst pumpkins"/>
          <p:cNvPicPr/>
          <p:nvPr/>
        </p:nvPicPr>
        <p:blipFill>
          <a:blip r:embed="rId6"/>
          <a:stretch/>
        </p:blipFill>
        <p:spPr>
          <a:xfrm>
            <a:off x="6804000" y="4476600"/>
            <a:ext cx="1949400" cy="1559160"/>
          </a:xfrm>
          <a:prstGeom prst="rect">
            <a:avLst/>
          </a:prstGeom>
          <a:ln w="0">
            <a:noFill/>
          </a:ln>
        </p:spPr>
      </p:pic>
      <p:sp>
        <p:nvSpPr>
          <p:cNvPr id="199" name=""/>
          <p:cNvSpPr/>
          <p:nvPr/>
        </p:nvSpPr>
        <p:spPr>
          <a:xfrm>
            <a:off x="5651640" y="6165720"/>
            <a:ext cx="3492360" cy="39888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unburst pumpkin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49493502-A5F1-4002-92A6-7917B01D5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9280" y="103320"/>
            <a:ext cx="6840720" cy="588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Cocoa farmers in Ghana</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620280"/>
            <a:ext cx="68421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ucy Mansa is a cocoa farmer who makes her living by growing and selling cocoa bea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She lives in a small village in Ghana called Fenaso Domeabr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But the price farmers receive for their cocoa beans is often very low and few of them can afford to buy chocolat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ucy and other farmers in her village used to have to sell their cocoa to the Ghanaian government. They were often cheated and earned very little money for their hard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hey could do very little about it, until cocoa farmers in the same situation decided to get together and form their own compan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hey called their company </a:t>
            </a:r>
            <a:r>
              <a:rPr b="1" i="1" lang="en-GB" sz="2400" spc="-1" strike="noStrike">
                <a:solidFill>
                  <a:srgbClr val="006699"/>
                </a:solidFill>
                <a:latin typeface="Comic Sans MS"/>
              </a:rPr>
              <a:t>Kuapa Kokoo</a:t>
            </a:r>
            <a:r>
              <a:rPr b="1" lang="en-GB" sz="2400" spc="-1" strike="noStrike">
                <a:solidFill>
                  <a:srgbClr val="006699"/>
                </a:solidFill>
                <a:latin typeface="Comic Sans MS"/>
              </a:rPr>
              <a:t>, which means "good cocoa farmer."</a:t>
            </a:r>
            <a:endParaRPr b="0" lang="en-US" sz="2400" spc="-1" strike="noStrike">
              <a:solidFill>
                <a:srgbClr val="006699"/>
              </a:solidFill>
              <a:latin typeface="Comic Sans MS"/>
            </a:endParaRPr>
          </a:p>
        </p:txBody>
      </p:sp>
      <p:pic>
        <p:nvPicPr>
          <p:cNvPr id="202" name="" descr="Lucy Mansa"/>
          <p:cNvPicPr/>
          <p:nvPr/>
        </p:nvPicPr>
        <p:blipFill>
          <a:blip r:embed="rId7"/>
          <a:stretch/>
        </p:blipFill>
        <p:spPr>
          <a:xfrm>
            <a:off x="7149960" y="189000"/>
            <a:ext cx="1689120" cy="2592360"/>
          </a:xfrm>
          <a:prstGeom prst="rect">
            <a:avLst/>
          </a:prstGeom>
          <a:ln w="0">
            <a:noFill/>
          </a:ln>
        </p:spPr>
      </p:pic>
      <p:sp>
        <p:nvSpPr>
          <p:cNvPr id="203" name=""/>
          <p:cNvSpPr/>
          <p:nvPr/>
        </p:nvSpPr>
        <p:spPr>
          <a:xfrm>
            <a:off x="6948360" y="2708280"/>
            <a:ext cx="2089440" cy="2014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Lucy says, 'I am very happy: since I joined Fair Trade I can afford to send my children to schoo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8AF0185-6953-49CB-9047-5C393FEB1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50560" y="260280"/>
            <a:ext cx="727380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t has really helped Lucy and thousands of other farmers. Kuapa Kokoo pays all its farmers a fair price for their crop, in cash, and on tim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But Fair trade has other 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cial premium means that in Lucy's village of Fenaso Domeabra a new well has been buil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Clean water for everyone!</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Through Fair Trade the villagers of Fenaso Domeabra now have clean water whenever they want it</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Desmond Mensah, Lucy’s son, sees the benefits of Fair Trad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m very happy that we have this well; I've never seen clean water like this before.</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efore we got this well, we had to walk long distances through the forests in search of water, and even then it wasn't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We want to sell more of our cocoa to Fair Trade companies so that we can invest in more things for the commun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the moment, I go to school, but some of my friends don't. I like school, I think education is important. My favourite subject is maths, but I also like football."</a:t>
            </a:r>
            <a:endParaRPr b="0" lang="en-US" sz="2000" spc="-1" strike="noStrike">
              <a:solidFill>
                <a:srgbClr val="006699"/>
              </a:solidFill>
              <a:latin typeface="Comic Sans MS"/>
            </a:endParaRPr>
          </a:p>
        </p:txBody>
      </p:sp>
      <p:pic>
        <p:nvPicPr>
          <p:cNvPr id="205" name="" descr="Desmond Mensah uses the well"/>
          <p:cNvPicPr/>
          <p:nvPr/>
        </p:nvPicPr>
        <p:blipFill>
          <a:blip r:embed="rId11"/>
          <a:stretch/>
        </p:blipFill>
        <p:spPr>
          <a:xfrm>
            <a:off x="7532640" y="260280"/>
            <a:ext cx="1422360" cy="2376720"/>
          </a:xfrm>
          <a:prstGeom prst="rect">
            <a:avLst/>
          </a:prstGeom>
          <a:ln w="0">
            <a:noFill/>
          </a:ln>
        </p:spPr>
      </p:pic>
      <p:sp>
        <p:nvSpPr>
          <p:cNvPr id="206" name=""/>
          <p:cNvSpPr/>
          <p:nvPr/>
        </p:nvSpPr>
        <p:spPr>
          <a:xfrm>
            <a:off x="7596360" y="2852640"/>
            <a:ext cx="136836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smond uses the well</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CDA34EE5-7F1C-48BE-B2CB-BE97C3EC9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vari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live in the UK or other country that has Fairtrade Goods in their shops – this is for you.</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o shopping and try to find out what Fairtrade goods are in the shops and which country they come fro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2 homework documents – one in WORD which tells you what to do and a blank word map in PAINT. Use the little paint-pot in PAINT to colour in the countries that supplied the fair trade goods you found out about and use the A (text symbol) to label the country and what it supplied. When you have finished, try and upload the PAINT document to the HWK folder but email if that does not work.</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835B5B4-49B6-4DA3-9C11-706737130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 – for the other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google images, put in ‘Fairtrade products’ or similar and make a collage on one PowerPoint slide or on one sheet of WORD if you do not have PowerPoint - but make sure you have it in landscape so I can transfer it to PP  for the others to se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B45C005-4A27-4A19-98C0-068B0E2CD1C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16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fair trade is where the farmers or producers of goods do not get a reasonable price for their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does this happe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in the MEDCs want cheap goods – be it food or clothes or whatever the LEDCs can produc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importers refuse to pay more than they can afford to provide the cheap goods – and all the importers group together so the goods have to be sold cheaply or not at al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2EC8272-0D06-48B4-9709-48F2185580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16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other end, big plantations are owned by companies from the MEDC, and they used to pay  as low wages as they could, and as the locals have to work for them as there is no other work, they have to take low wages and bad condition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exported goods are produced on plantations. Some are grown as a small cash crop on basically subsistence farm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 traders travel around these areas and collect the cocoa or coffee or whatever, and the small farmers have to sell to them at whatever price they will pay as there is no-one else who will buy it, and often this is not very much – these local traders take everyone’s goods to the next big town, where it collected by bigger traders who then export the good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F26BDF8-4964-4521-A2C5-CC8059D2E6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16000" y="549360"/>
            <a:ext cx="3816360" cy="3024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what is fair trade?</a:t>
            </a:r>
            <a:endParaRPr b="1" lang="en-US" sz="4800" spc="-1" strike="noStrike">
              <a:solidFill>
                <a:srgbClr val="006666"/>
              </a:solidFill>
              <a:latin typeface="Comic Sans MS"/>
            </a:endParaRPr>
          </a:p>
        </p:txBody>
      </p:sp>
      <p:pic>
        <p:nvPicPr>
          <p:cNvPr id="169" name="" descr=""/>
          <p:cNvPicPr/>
          <p:nvPr/>
        </p:nvPicPr>
        <p:blipFill>
          <a:blip r:embed="rId1"/>
          <a:stretch/>
        </p:blipFill>
        <p:spPr>
          <a:xfrm>
            <a:off x="179280" y="620640"/>
            <a:ext cx="2247840" cy="5211720"/>
          </a:xfrm>
          <a:prstGeom prst="rect">
            <a:avLst/>
          </a:prstGeom>
          <a:ln w="0">
            <a:noFill/>
          </a:ln>
        </p:spPr>
      </p:pic>
      <p:sp>
        <p:nvSpPr>
          <p:cNvPr id="170" name="PlaceHolder 2"/>
          <p:cNvSpPr>
            <a:spLocks noGrp="1"/>
          </p:cNvSpPr>
          <p:nvPr>
            <p:ph type="subTitle"/>
          </p:nvPr>
        </p:nvSpPr>
        <p:spPr>
          <a:xfrm>
            <a:off x="2555640" y="3068640"/>
            <a:ext cx="4103640" cy="3168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Fairtrade Foundation guarantees the standards applied to all products that carry its label</a:t>
            </a:r>
            <a:endParaRPr b="1" lang="en-US" sz="3200" spc="-1" strike="noStrike">
              <a:solidFill>
                <a:srgbClr val="006699"/>
              </a:solidFill>
              <a:latin typeface="Comic Sans MS"/>
            </a:endParaRPr>
          </a:p>
        </p:txBody>
      </p:sp>
      <p:pic>
        <p:nvPicPr>
          <p:cNvPr id="171" name="" descr=""/>
          <p:cNvPicPr/>
          <p:nvPr/>
        </p:nvPicPr>
        <p:blipFill>
          <a:blip r:embed="rId2"/>
          <a:stretch/>
        </p:blipFill>
        <p:spPr>
          <a:xfrm>
            <a:off x="6732720" y="189000"/>
            <a:ext cx="2239920" cy="1942920"/>
          </a:xfrm>
          <a:prstGeom prst="rect">
            <a:avLst/>
          </a:prstGeom>
          <a:ln w="0">
            <a:noFill/>
          </a:ln>
        </p:spPr>
      </p:pic>
      <p:sp>
        <p:nvSpPr>
          <p:cNvPr id="172" name=""/>
          <p:cNvSpPr/>
          <p:nvPr/>
        </p:nvSpPr>
        <p:spPr>
          <a:xfrm>
            <a:off x="3059280" y="189000"/>
            <a:ext cx="3313080" cy="934920"/>
          </a:xfrm>
          <a:prstGeom prst="cloudCallout">
            <a:avLst>
              <a:gd name="adj1" fmla="val 68018"/>
              <a:gd name="adj2" fmla="val 44907"/>
            </a:avLst>
          </a:prstGeom>
          <a:solidFill>
            <a:srgbClr val="ead5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airtrade is not just farmers</a:t>
            </a:r>
            <a:endParaRPr b="0" lang="en-US" sz="1800" spc="-1" strike="noStrike">
              <a:solidFill>
                <a:srgbClr val="006699"/>
              </a:solidFill>
              <a:latin typeface="Arial"/>
            </a:endParaRPr>
          </a:p>
        </p:txBody>
      </p:sp>
      <p:sp>
        <p:nvSpPr>
          <p:cNvPr id="173" name=""/>
          <p:cNvSpPr/>
          <p:nvPr/>
        </p:nvSpPr>
        <p:spPr>
          <a:xfrm>
            <a:off x="6732720" y="2205000"/>
            <a:ext cx="2232000" cy="1739880"/>
          </a:xfrm>
          <a:prstGeom prst="rect">
            <a:avLst/>
          </a:prstGeom>
          <a:solidFill>
            <a:srgbClr val="edfad2"/>
          </a:solidFill>
          <a:ln w="28440">
            <a:solidFill>
              <a:srgbClr val="99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b2af2"/>
                </a:solidFill>
                <a:latin typeface="Verdana"/>
              </a:rPr>
              <a:t>These recycled plastic bracelets are crafted in Burkina Faso from old plastic mats </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A15B4004-7D44-4A40-A930-52219FE0B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idea behind Fairtrade Foundation is to make sure that the producers get a reasonable price for their good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case of farmers, they are promised ahead of time what that will be, so that they have a degree of certainty about what income they will ge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ork with their regional cooperative to cut back on pesticides and fertilizers so that their production will be sustainabl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social premium paid to the community which is then invested in education, clean water, health care – whatever that community decide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7792D641-738C-4C96-943C-5F595EC286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ets look at some examples</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836280"/>
            <a:ext cx="56163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Pink carrots from Guatemal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people in Guatemala make a living from farming. They grow food for their families to eat and anything left over is sold at local mark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aditional food crop in Guatemala is maize, which is cooked and eaten as </a:t>
            </a:r>
            <a:r>
              <a:rPr b="0" i="1" lang="en-US" sz="2400" spc="-1" strike="noStrike">
                <a:solidFill>
                  <a:srgbClr val="006699"/>
                </a:solidFill>
                <a:latin typeface="Comic Sans MS"/>
              </a:rPr>
              <a:t>tortillas</a:t>
            </a:r>
            <a:r>
              <a:rPr b="0" lang="en-US" sz="2400" spc="-1" strike="noStrike">
                <a:solidFill>
                  <a:srgbClr val="006699"/>
                </a:solidFill>
                <a:latin typeface="Comic Sans MS"/>
              </a:rPr>
              <a:t> or </a:t>
            </a:r>
            <a:r>
              <a:rPr b="0" i="1" lang="en-US" sz="2400" spc="-1" strike="noStrike">
                <a:solidFill>
                  <a:srgbClr val="006699"/>
                </a:solidFill>
                <a:latin typeface="Comic Sans MS"/>
              </a:rPr>
              <a:t>tamales</a:t>
            </a:r>
            <a:r>
              <a:rPr b="0" lang="en-US" sz="2400" spc="-1" strike="noStrike">
                <a:solidFill>
                  <a:srgbClr val="006699"/>
                </a:solidFill>
                <a:latin typeface="Comic Sans MS"/>
              </a:rPr>
              <a:t> (maize cooked with meat or vegetables). Tomatoes, onions, and beans are also grown the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farmers are now trying to grow other crops that they can export to the richer countries of the North. This allows them to earn more money to spend on food, health care, and education for their families. </a:t>
            </a:r>
            <a:endParaRPr b="0" lang="en-US" sz="2400" spc="-1" strike="noStrike">
              <a:solidFill>
                <a:srgbClr val="006699"/>
              </a:solidFill>
              <a:latin typeface="Comic Sans MS"/>
            </a:endParaRPr>
          </a:p>
        </p:txBody>
      </p:sp>
      <p:pic>
        <p:nvPicPr>
          <p:cNvPr id="177" name="" descr="vegetables for sale at the market"/>
          <p:cNvPicPr/>
          <p:nvPr/>
        </p:nvPicPr>
        <p:blipFill>
          <a:blip r:embed="rId5"/>
          <a:stretch/>
        </p:blipFill>
        <p:spPr>
          <a:xfrm>
            <a:off x="6156360" y="2637000"/>
            <a:ext cx="2739960" cy="2192040"/>
          </a:xfrm>
          <a:prstGeom prst="rect">
            <a:avLst/>
          </a:prstGeom>
          <a:ln w="0">
            <a:noFill/>
          </a:ln>
        </p:spPr>
      </p:pic>
      <p:sp>
        <p:nvSpPr>
          <p:cNvPr id="178" name=""/>
          <p:cNvSpPr/>
          <p:nvPr/>
        </p:nvSpPr>
        <p:spPr>
          <a:xfrm>
            <a:off x="6227640" y="5013360"/>
            <a:ext cx="273528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Guatemalan family sells vegetables at a local market </a:t>
            </a:r>
            <a:endParaRPr b="0" lang="en-US" sz="1800" spc="-1" strike="noStrike">
              <a:solidFill>
                <a:srgbClr val="006699"/>
              </a:solidFill>
              <a:latin typeface="Arial"/>
            </a:endParaRPr>
          </a:p>
        </p:txBody>
      </p:sp>
      <p:sp>
        <p:nvSpPr>
          <p:cNvPr id="179" name=""/>
          <p:cNvSpPr/>
          <p:nvPr/>
        </p:nvSpPr>
        <p:spPr>
          <a:xfrm>
            <a:off x="6227640" y="1197000"/>
            <a:ext cx="2305080" cy="863640"/>
          </a:xfrm>
          <a:prstGeom prst="wedgeRoundRectCallout">
            <a:avLst>
              <a:gd name="adj1" fmla="val -103583"/>
              <a:gd name="adj2" fmla="val 9889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kind of farming called?</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474606DF-602F-42D9-90C1-8ACF3937B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About Opcion</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836280"/>
            <a:ext cx="597672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is an organisation supported by Oxfam and it works with small farmer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helps them to decide what crops to grow for sale abroa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also helps them to improve their farming methods.</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Many of the farmers are now growing 'new' vegetables, not normally eaten in Guatemala, such as 'mini' carrots, broccoli and courgett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Mini-vegetables are very popular in hotels, restaurants and supermarkets in the USA, and people are prepared to pay well for the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PCION buys the vegetables from the farmers, washes and packs them, and flies them daily to the USA for sa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PCION gives the farmers a good price for their vegetables and makes sure that they get a share of the profits.</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sp>
        <p:nvSpPr>
          <p:cNvPr id="182" name=""/>
          <p:cNvSpPr/>
          <p:nvPr/>
        </p:nvSpPr>
        <p:spPr>
          <a:xfrm>
            <a:off x="6227640" y="2924280"/>
            <a:ext cx="2448000" cy="22885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 farmer who is supported by OPCION picks spinach watched by his daughter</a:t>
            </a:r>
            <a:endParaRPr b="0" lang="en-US" sz="2400" spc="-1" strike="noStrike">
              <a:solidFill>
                <a:srgbClr val="006699"/>
              </a:solidFill>
              <a:latin typeface="Arial"/>
            </a:endParaRPr>
          </a:p>
        </p:txBody>
      </p:sp>
      <p:pic>
        <p:nvPicPr>
          <p:cNvPr id="183" name="" descr="A farmer supported by OPCION picks spinach "/>
          <p:cNvPicPr/>
          <p:nvPr/>
        </p:nvPicPr>
        <p:blipFill>
          <a:blip r:embed="rId8"/>
          <a:stretch/>
        </p:blipFill>
        <p:spPr>
          <a:xfrm>
            <a:off x="6227640" y="981000"/>
            <a:ext cx="2381400" cy="1905120"/>
          </a:xfrm>
          <a:prstGeom prst="rect">
            <a:avLst/>
          </a:prstGeom>
          <a:ln w="0">
            <a:noFill/>
          </a:ln>
        </p:spPr>
      </p:pic>
      <p:sp>
        <p:nvSpPr>
          <p:cNvPr id="4" name="PlaceHolder 3"/>
          <p:cNvSpPr>
            <a:spLocks noGrp="1"/>
          </p:cNvSpPr>
          <p:nvPr>
            <p:ph type="sldNum" idx="1"/>
          </p:nvPr>
        </p:nvSpPr>
        <p:spPr/>
        <p:txBody>
          <a:bodyPr/>
          <a:p>
            <a:fld id="{811ECFC5-97A6-4F06-94AF-FE5CB28D51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Ismael Xalin</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692280"/>
            <a:ext cx="619272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Xalin is a small farmer who owns a number of small plots of land, spread out over the hillsid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needs to walk for 30-45 minutes, carrying all his equipment, before he can start work on his land. He then needs to carry the vegetables he has picked back to the road, so that they can be taken by lorry to the nearest town and sold in the market, or packed for expo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says: “I grow tomatoes, chilli peppers, onions, and green and yellow beans. The tomatoes and onions are sold in Guatemala, but we export the beans to the USA now, where we get a better price for the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Before we exported vegetables, we earned only enough to survive, and the price of traditional crops was falling. Since I have been growing crops for export, I have been able to build a house, send my children to school, and pay off my debts. The whole family has benefited.”</a:t>
            </a:r>
            <a:endParaRPr b="0" lang="en-US" sz="2000" spc="-1" strike="noStrike">
              <a:solidFill>
                <a:srgbClr val="006699"/>
              </a:solidFill>
              <a:latin typeface="Comic Sans MS"/>
            </a:endParaRPr>
          </a:p>
        </p:txBody>
      </p:sp>
      <p:sp>
        <p:nvSpPr>
          <p:cNvPr id="186" name=""/>
          <p:cNvSpPr/>
          <p:nvPr/>
        </p:nvSpPr>
        <p:spPr>
          <a:xfrm>
            <a:off x="6589800" y="3141720"/>
            <a:ext cx="2303280" cy="192276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Ismael harvests his bean crop ready for expor</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187" name="" descr="Ismael harvests his beans for export"/>
          <p:cNvPicPr/>
          <p:nvPr/>
        </p:nvPicPr>
        <p:blipFill>
          <a:blip r:embed="rId5"/>
          <a:stretch/>
        </p:blipFill>
        <p:spPr>
          <a:xfrm>
            <a:off x="6516720" y="1125360"/>
            <a:ext cx="2381040" cy="1905120"/>
          </a:xfrm>
          <a:prstGeom prst="rect">
            <a:avLst/>
          </a:prstGeom>
          <a:ln w="0">
            <a:noFill/>
          </a:ln>
        </p:spPr>
      </p:pic>
      <p:sp>
        <p:nvSpPr>
          <p:cNvPr id="4" name="PlaceHolder 3"/>
          <p:cNvSpPr>
            <a:spLocks noGrp="1"/>
          </p:cNvSpPr>
          <p:nvPr>
            <p:ph type="sldNum" idx="1"/>
          </p:nvPr>
        </p:nvSpPr>
        <p:spPr/>
        <p:txBody>
          <a:bodyPr/>
          <a:p>
            <a:fld id="{E325CAFA-234F-4517-BDBA-F6440C9D65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3320"/>
            <a:ext cx="871380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packing station</a:t>
            </a:r>
            <a:endParaRPr b="0" lang="en-US" sz="4000" spc="-1" strike="noStrike">
              <a:solidFill>
                <a:srgbClr val="006666"/>
              </a:solidFill>
              <a:latin typeface="Comic Sans MS"/>
            </a:endParaRPr>
          </a:p>
        </p:txBody>
      </p:sp>
      <p:sp>
        <p:nvSpPr>
          <p:cNvPr id="189" name="PlaceHolder 2"/>
          <p:cNvSpPr>
            <a:spLocks noGrp="1"/>
          </p:cNvSpPr>
          <p:nvPr>
            <p:ph/>
          </p:nvPr>
        </p:nvSpPr>
        <p:spPr>
          <a:xfrm>
            <a:off x="250920" y="836280"/>
            <a:ext cx="612144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PCION also has a small packing plant in Chimaltenango, where the farmers' vegetables are washed, sorted, and packed for export to the US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buyers have strict demands about the quality of the vegetables they receive, so OPCION must make sure that poor vegetables are rejected, and the selected ones are washed and packed careful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en OPCION bought the plant, they took down the front wall so that the farmers could see what was happening to their produce. This helps them to understand the strict quality demands of the buyers and feel more involved in the whole selling process. </a:t>
            </a:r>
            <a:endParaRPr b="0" lang="en-US" sz="2400" spc="-1" strike="noStrike">
              <a:solidFill>
                <a:srgbClr val="006699"/>
              </a:solidFill>
              <a:latin typeface="Comic Sans MS"/>
            </a:endParaRPr>
          </a:p>
        </p:txBody>
      </p:sp>
      <p:sp>
        <p:nvSpPr>
          <p:cNvPr id="190" name=""/>
          <p:cNvSpPr/>
          <p:nvPr/>
        </p:nvSpPr>
        <p:spPr>
          <a:xfrm>
            <a:off x="6516720" y="2997360"/>
            <a:ext cx="2374920" cy="11304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 packing plant at </a:t>
            </a:r>
            <a:r>
              <a:rPr b="1" lang="en-GB" sz="2000" spc="-1" strike="noStrike">
                <a:solidFill>
                  <a:srgbClr val="006699"/>
                </a:solidFill>
                <a:latin typeface="Verdana"/>
              </a:rPr>
              <a:t>Chimaltenango</a:t>
            </a:r>
            <a:endParaRPr b="0" lang="en-US" sz="2000" spc="-1" strike="noStrike">
              <a:solidFill>
                <a:srgbClr val="006699"/>
              </a:solidFill>
              <a:latin typeface="Arial"/>
            </a:endParaRPr>
          </a:p>
        </p:txBody>
      </p:sp>
      <p:pic>
        <p:nvPicPr>
          <p:cNvPr id="191" name="" descr="The packing plant at Chimaltenango "/>
          <p:cNvPicPr/>
          <p:nvPr/>
        </p:nvPicPr>
        <p:blipFill>
          <a:blip r:embed="rId4"/>
          <a:stretch/>
        </p:blipFill>
        <p:spPr>
          <a:xfrm>
            <a:off x="6443640" y="981000"/>
            <a:ext cx="2381400" cy="1905120"/>
          </a:xfrm>
          <a:prstGeom prst="rect">
            <a:avLst/>
          </a:prstGeom>
          <a:ln w="0">
            <a:noFill/>
          </a:ln>
        </p:spPr>
      </p:pic>
      <p:sp>
        <p:nvSpPr>
          <p:cNvPr id="4" name="PlaceHolder 3"/>
          <p:cNvSpPr>
            <a:spLocks noGrp="1"/>
          </p:cNvSpPr>
          <p:nvPr>
            <p:ph type="sldNum" idx="1"/>
          </p:nvPr>
        </p:nvSpPr>
        <p:spPr/>
        <p:txBody>
          <a:bodyPr/>
          <a:p>
            <a:fld id="{F3C2FB45-A458-4574-81A3-C7EAE841BB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4:38:44Z</dcterms:created>
  <dc:creator>Lindy</dc:creator>
  <dc:description/>
  <dc:language>en-US</dc:language>
  <cp:lastModifiedBy>Lindy</cp:lastModifiedBy>
  <dcterms:modified xsi:type="dcterms:W3CDTF">2009-03-22T13:02:16Z</dcterms:modified>
  <cp:revision>3</cp:revision>
  <dc:subject/>
  <dc:title>What is sustainabilit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